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F4D-3AF2-4770-AB74-96083B27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C03-9C87-46DA-891D-A3F8B9C0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F27-A859-4FE6-BF6F-4FD60DD0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4B9-63D9-4BE0-BF82-7CDBA6CA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AC5-5F05-4A85-BBBF-7015E3EE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297-006B-414D-BC19-12039312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1FB-462C-440F-BFA6-1B96DED7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633-40BA-4884-8FE5-080EBE58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247-77AD-4525-9F67-27EA8D64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07E-7EBA-415F-A9FA-68CA1EC2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489-F8D0-4027-8A1F-D7195ACD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1F1-2F1C-474F-BE98-3F13A57F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90A1-49EB-4FE4-B6A0-2A4043250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ran Donnelly Gr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5720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3048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Honolulu.  Statehood:  August 21,1959 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. The motto is The life of the land is perpetuated in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46672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2133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1,224,39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: 10,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Yellow hibis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N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Peoples: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619440" cy="3086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152280"/>
            <a:ext cx="28195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ush Pacific island state of 8 major islands and 124 islets, originally settled by Polynesians from Marquesas has active volcanoes.  The first European , Captain Cook, visited in 1778,and the United States annexed Hawaii in 18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61936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214308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2:42:22Z</dcterms:created>
  <dc:creator>Mother of Divine Grace</dc:creator>
  <dc:description/>
  <dc:language>en-US</dc:language>
  <cp:lastModifiedBy>Mother of Divine Grace</cp:lastModifiedBy>
  <dcterms:modified xsi:type="dcterms:W3CDTF">2012-05-11T03:35:20Z</dcterms:modified>
  <cp:revision>2</cp:revision>
  <dc:subject/>
  <dc:title>Hawaii</dc:title>
</cp:coreProperties>
</file>